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B65-2CA6-4894-B256-937A88AF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0FD-429E-4024-AF5D-6CE3DA10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15F-9394-412D-A5F7-21A3E530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341-1EC1-43E9-87D0-ECD38396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D0C9-3D27-44D0-A594-CE79403A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BD1A-1237-4C2C-82D0-8A0FFF40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6928-F901-4927-A7E7-E3CF4D77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47A3-9370-494D-9B51-FB4B2965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964F-3C9A-4B46-88E9-13B69E2A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5623-5876-46BA-BC4D-A296EFA3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8DA4-B157-447C-BBD1-26A11AAB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0DB-8117-450E-BCDC-A1AC45F2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ADFB-695C-4E40-BA16-56D06F3C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B076-07B3-4587-9048-617D5D9B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63CC-4D58-4C1C-87E6-9A806CD1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553C-68A8-4AF8-B00C-34FBC810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40ED-DE30-45C9-BFC0-555B67FD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234-4F80-4824-95AF-7AA12260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8EE-24F2-4E06-80B9-C8DD2D4B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661-9235-47B3-B13C-55A3DE7F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723-FB97-4C28-9696-D2AEDCA9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3F6-52DB-4725-AADF-BD99FD96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4A5-6623-4225-952C-3487D49A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70B-ED5C-4D6F-8F5F-54410AA3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E019-E752-4238-AE1E-37ED505BF0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65F6-2230-4FC5-AD85-0E8B133EDC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53416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0000"/>
                </a:solidFill>
                <a:latin typeface="Verdana"/>
              </a:rPr>
              <a:t>Propósito # 6:</a:t>
            </a:r>
            <a:r>
              <a:rPr b="0" lang="es-ES_tradnl" sz="29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omo seguimos el repaso de los Pronombres de Objeto Direct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Copia y remplaza con el P.O.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Gloria bebe café todos los día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festival celebra la herencia hispan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Nosotros comemos caramelos en Hallow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Las chicas saben bailar danzas caribeña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 llamo ________ Clase 8 IM</a:t>
            </a:r>
            <a:br>
              <a:rPr sz="3600"/>
            </a:b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La fecha es el 4 de octubre del 2012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Pasos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step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d the verb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(the conjugated on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k yourself: what/whom? Is taking the action of the ver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d the Direct Obje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d the Gender and Number of the D.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cide what P.O.D you will use to replace the Direct Obje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place the D.O with the P.O.D. n place it BEFORE the ver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298520" y="30132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s practica de los Pronombres de Objeto Directo (P.O.D.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7631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Verdana"/>
              </a:rPr>
              <a:t>Luisa tiene una taza de agu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Verdana"/>
              </a:rPr>
              <a:t>Luisa la tien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La profesora cerro la puerta muy tempran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La profesora la cerro muy tempran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1371600"/>
            <a:ext cx="99036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01240" y="129528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838080"/>
            <a:ext cx="350496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3640" y="9907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057400" y="1371600"/>
            <a:ext cx="13716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981080"/>
            <a:ext cx="60948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3429000"/>
            <a:ext cx="99036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37920" y="335268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971800"/>
            <a:ext cx="1752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9400" y="2743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429000" y="3505320"/>
            <a:ext cx="9907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4038480"/>
            <a:ext cx="60948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NOMBRES DE OBJETO DIRECTO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(P.O.D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member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rect Objects TAKE the action of the ver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900" spc="-1" strike="noStrike">
                <a:solidFill>
                  <a:srgbClr val="008000"/>
                </a:solidFill>
                <a:latin typeface="Verdana"/>
              </a:rPr>
              <a:t>P.O.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 are: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Verdana"/>
              </a:rPr>
              <a:t>Lo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Masculine, singul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Verdana"/>
              </a:rPr>
              <a:t>La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Feminine, singular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Verdana"/>
              </a:rPr>
              <a:t>Lo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Masculine, plural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Verdana"/>
              </a:rPr>
              <a:t>La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Feminine, plur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900" spc="-1" strike="noStrike">
                <a:solidFill>
                  <a:srgbClr val="008000"/>
                </a:solidFill>
                <a:latin typeface="Verdana"/>
              </a:rPr>
              <a:t>P.O.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REPLACE the Direct Obj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900" spc="-1" strike="noStrike">
                <a:solidFill>
                  <a:srgbClr val="008000"/>
                </a:solidFill>
                <a:latin typeface="Verdana"/>
              </a:rPr>
              <a:t>P.O.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is placed BEFORE the ver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Copy and Answer using the P.O.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 Dónde  compraste los palos de golf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Adonde usas el traje de bañ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uándo compraste tus zapatos de teni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uándo visitaste un balneari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Usaron crema bronceadora en el veran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rea # 6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a la hoja distribuid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20:13:31Z</dcterms:created>
  <dc:creator>Helen Zumaeta</dc:creator>
  <dc:description/>
  <dc:language>en-US</dc:language>
  <cp:lastModifiedBy>Helen Zumaeta</cp:lastModifiedBy>
  <dcterms:modified xsi:type="dcterms:W3CDTF">2012-10-04T20:08:18Z</dcterms:modified>
  <cp:revision>7</cp:revision>
  <dc:subject/>
  <dc:title>Me llamo ________ Clase 9IM La fecha es el 2 de octubre del 2012</dc:title>
</cp:coreProperties>
</file>